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22EF-8FF1-423B-9431-B579CA70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9A6-1B0A-42D3-B7CD-2E3F2B439A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35-3257-4902-A024-F2A9F9A7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834-64FE-4665-BD74-DF2588F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3DA-A0C9-4DD9-A7D5-A67E401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824-E69A-45D0-87AD-E77BA278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330-8D37-4A9E-BEEF-82AB00F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9B6-8D30-4E46-A2F4-146C316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88E-AB03-4EC8-BFE6-D95B3BC9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20D-A3FD-4C8F-B887-C98C757E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763-8002-44EE-B710-2047AAB5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941-9E26-466E-AE1B-5CDB6FB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10D-2E32-4855-B42C-E9B159E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1FA-68E9-4526-B879-9BFC656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C50B-DBDB-41B4-B1B2-E4CD0DB9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3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 – Questions fo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agnetism?  What are magnetic fields?  What are magnetic poles?  What are magnetic dom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tatic electricity?  What happens when static charges inter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to create a simple circuit?  What is the difference between series and parallel circui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chemica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nergy transformation occurs in electrochemical cells?  What are the 3 parts of a cell?  What are the two types of cells we made and how were they different?  What is formed when 2 or more cells are connected in se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n electromagnet?  What is the principle behind the creation of electromagnets?  What is the difference between a permanent magnet and an electromagnet?  What are the variables which can change the strength of an electromag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TURN IN HOMEWORK – INDIVIDUAL PLAN for EGG D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3 RE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DUE TOMORROW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9F8DF328-3A65-4070-A8B3-C4D62F88C8A5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plain the important understandings related to electricity and magnetism covered during the last 3 weeks of lesson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 RE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may use your notes, worksheets, textbooks, and websites on the science links pag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magazine from the front table when you turn in your quiz 3 re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answer any question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lab activities, you may try them at home, but for the class period…predict what would happen using what you have learned during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31120" y="4800600"/>
            <a:ext cx="16365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440" y="14914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lectromagnet Fishing Pole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UE TOMORRO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9:56:45Z</dcterms:created>
  <dc:creator>CCPS</dc:creator>
  <dc:description/>
  <dc:language>en-US</dc:language>
  <cp:lastModifiedBy>CCPS</cp:lastModifiedBy>
  <dcterms:modified xsi:type="dcterms:W3CDTF">2010-03-29T19:57:10Z</dcterms:modified>
  <cp:revision>1</cp:revision>
  <dc:subject/>
  <dc:title>Slide 1</dc:title>
</cp:coreProperties>
</file>